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985EB-7FAE-47A0-8F88-2F5401C549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26860-B1A6-4D0C-A355-9942AA24B5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BC709-211E-4F55-8F27-59D393F3BF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923F3-5A14-4A8B-A32C-8EECFEB788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2390A-26CF-415F-9C95-FA1E565831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43FB-47CC-48A5-A405-19FC5065D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19B1-A281-4CA5-9F49-9BA4B4F9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EF08-74D9-413D-8F8C-6833B22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5AFC-FABC-4F5E-AAD8-002E3395E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63D4-DC64-43DD-9833-F46678CE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810E-552C-447C-894E-8C941297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20DF-1066-4BF4-A9FC-648C4DD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EA78-D130-4A6D-9F1D-8FC6BEE0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3D41-0ABB-4647-9DAF-52C315F1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7F4D-982A-47BC-957B-E7C903E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8DDC-455D-4EAD-BB2C-433A816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139D-2DDD-48A7-904B-3B4B1AA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0E2AB8-C875-45B7-8D23-02889ACE8738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dinámica de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ASÍ SE PRODUCE UN TERREM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í se produce un terrem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28720" y="1655640"/>
            <a:ext cx="7451640" cy="3922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971640" y="4464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 rot="10740000">
            <a:off x="2016000" y="44650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5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116000" y="907920"/>
            <a:ext cx="23036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producen fuerzas tectónicas debido al desplazamiento d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pla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708360" y="765000"/>
            <a:ext cx="23036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acumula tensión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s rocas que se resisten a desplazarse o a romper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191280" y="692280"/>
            <a:ext cx="295272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almente, cuando las rocas no soportan más tensión, se rompen o desplazan bruscamente, produciendo un terremo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2843280" y="5589720"/>
            <a:ext cx="2519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pocentr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el lugar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litosfera donde se origina el terremo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292720" y="5516640"/>
            <a:ext cx="3456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picentr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el lugar 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uperficie que cae justo sobr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hipocentro, y allí donde el terremoto tiene su máxima intensid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4932360" y="4516200"/>
            <a:ext cx="1332000" cy="1073160"/>
          </a:xfrm>
          <a:prstGeom prst="line">
            <a:avLst/>
          </a:prstGeom>
          <a:ln w="18000">
            <a:solidFill>
              <a:srgbClr val="008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6262560" y="3657600"/>
            <a:ext cx="325440" cy="1859040"/>
          </a:xfrm>
          <a:prstGeom prst="line">
            <a:avLst/>
          </a:prstGeom>
          <a:ln w="18000">
            <a:solidFill>
              <a:srgbClr val="008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6 CuadroTexto"/>
          <p:cNvSpPr/>
          <p:nvPr/>
        </p:nvSpPr>
        <p:spPr>
          <a:xfrm>
            <a:off x="684360" y="981000"/>
            <a:ext cx="3585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7 CuadroTexto"/>
          <p:cNvSpPr/>
          <p:nvPr/>
        </p:nvSpPr>
        <p:spPr>
          <a:xfrm>
            <a:off x="3276720" y="836640"/>
            <a:ext cx="3585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8 CuadroTexto"/>
          <p:cNvSpPr/>
          <p:nvPr/>
        </p:nvSpPr>
        <p:spPr>
          <a:xfrm>
            <a:off x="5796000" y="765000"/>
            <a:ext cx="3603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9 CuadroTexto"/>
          <p:cNvSpPr/>
          <p:nvPr/>
        </p:nvSpPr>
        <p:spPr>
          <a:xfrm>
            <a:off x="8028000" y="3789360"/>
            <a:ext cx="3603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740720" y="422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terremoto alcanza la superficie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rrest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Ana</cp:lastModifiedBy>
  <dcterms:modified xsi:type="dcterms:W3CDTF">2011-07-22T10:07:15Z</dcterms:modified>
  <cp:revision>44</cp:revision>
  <dc:subject/>
  <dc:title>Diapositiva 1</dc:title>
</cp:coreProperties>
</file>